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3849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066D-4E6D-4EE2-9E1A-5393997DB79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3626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14300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14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Qualitative Data Coll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Distinguish between participant and nonparticipant observational techniques and describe how they can be used in a qualitative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Identify four specific interview techniques and describe how they can be used in a qualitative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cording Observ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status or roles of people; who leads, who follows, who is decisive, who is not?  What is the tone of the session?  What beliefs, attitudes, values seem to emerg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id the meeting end?  Was the group divided, united, upset, bored, or relie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ctivities or interactions seemed unusual or significa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as the observer doing during the session?  What was the observer’s level of participation in the observ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cording Observ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lowly.  Do not assume that you know what you are looking for until you have experience in the setting and have spent time with the particip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enter the field with no preconceptions. Recognize and dismiss your assumptions and remain op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your field notes as soon as possible. Don’t discuss the observation until you have written field no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cording Observ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 the date, site, and time on notes. Use large margins and write impressions in the margins. Draw diagra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key words related to the observation and outline what you saw and heard.  Use the keywords and the outline to write your no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descriptive and reflective parts of your field notes distin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cording Observ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down your hunches, questions, and insights after each observ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the lines or paragraphs of your field notes to help you find sections when need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er your field notes into a computer program for later examination and analy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terview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views are purposeful interactions in which one person obtains information from another pers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views allow for data not available through observation alon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views may be formal and planned or informal and unplann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terview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views may be unstructured or structu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tructured interviews are similar to convers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tructured interviews are commonly used to gain more personal info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terview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interviews include predetermined ques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rasing structured interviews can be challeng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both open-ended and closed ques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lot test the ques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uidelines for Interview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ening is the most important part of interview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interrupt. Wa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lerate silence. The participant may be think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leading ques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participants focused and ask for detai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uidelines for Interview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llow-up on what participants say and ask questions when you don’t understa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be judgmental about participants’ views or belief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debate with participant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llecting Data From Interview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can collect data through taking notes during the interview, writing notes after the interview,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dio- or videotaping the intervie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 when it is pos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ing notes during an interview is distrac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ing notes after an interview is difficult because the interviewer may not remember critical info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cribing tapes takes a very long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ed transcripts and tapes should be sto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14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Qualitative Data Coll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Describe how questionnaires and records can be used to provide data for qualitative stud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Describe strategies to address the trustworthiness (i.e., validity) and replicability (i.e., reliability) of qualitative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llecting Data From Interview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groups include several individuals who can contribute to the understanding of the research proble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one should have opportunities to respond during a focus group interview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cribing focus group interviews may take longer to than transcribing individual intervie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llecting Data From Interview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 interviews are similar to an ongoing convers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ical considerations of confidentiality and anonymity are important to address in e-mail intervie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estionnai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views are time consuming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researchers use questionnaires and then follow-up questionnaires with intervie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stionnaires allow for larger amounts of data coll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ature of the data collected with questionnaires is different than data from observa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estionnaire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questionnaire attrac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efully proofread questionnai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lengthy questionnai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ask unnecessary ques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ructured items with a variety of respon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Questionnaire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 a section that allows respondents to include ‘other comments’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section may provide information for follow-up intervie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if respondents’ identities are necessary and if so, develop a mechanism to track respondent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ining Recor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researchers use a variety of available docu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chival doc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ur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deotape and audiota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if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lidity and 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in qualitative research addresses whether the data accurately measures what it was intended to meas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stworthiness and understanding are terms used to describe validity in qualitative research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lidity and 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stworthiness can be establish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dibilit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report addresses problems that are not easily explai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nsferabilit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description provided is such that others can identify with the set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endabilit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stability of the data is addre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firmabilit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neutrality and objectivity of the data are appar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lidity and 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2017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teria for qualitative research validity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criptive valid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actual accuracy of the ac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pretive validit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earcher accurately interprets participants’ behaviors and 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tical valid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how well the report relates to broader the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lidity and 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2017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valuative valid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ther the report was created without researcher’s ju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lizability (Internal and External)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gree to which research is generalizable within and outside the se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litative Dat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data collection is referred to as fieldwo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work includes materials gathered, recorded, and compiled during the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work requires the researcher to immerse himself in the setting over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searcher collects as much data she can as unobtrusively as pos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data is narrative and visu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lidity and 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ategies for ensuring the validity of qualitative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long participation at the study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istently obser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peer debrief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additional artifa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uct member che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structural corroboration or coh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referential adequ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lidity and 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detailed descriptiv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 detailed descriptions of the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an audit tr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actice triang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actice reflex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lidity and 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al options to assure trustworth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lk little; listen a l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 observations accu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writing e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readers ‘see’ for themsel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ort fu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cand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k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ccuratel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dopted from Wolcott (19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lidity and Reli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researchers address reliability by examining the techniques they are using to collect data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izability is less a concern for qualitative researchers than it is for quantitative researchers.  Qualitative researchers are more concerned with relev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bserv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searcher obtains data by watching participant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tional data is often less subject to participant b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searcher attempts not to change the set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bserv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s of 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earcher becomes part of and a participant in the situation being ob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earcher participates while observing and collecting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bserv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s of 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earcher is not directly part of the situation being ob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earcher observes and records but does not interact with the particip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participant observation is a less intrusive form of observ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cording Observ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otes include descriptive information about what the observer has directly seen and heard on s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otes also include reflective information that captures an observer’s personal reactions and thoughts related to the observ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searcher avoids evaluative terms in field notes but instead describes behavi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cording Observ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tional protocols are often us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s provide the researcher with a focus during the observ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s also provide a framework for the field no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cording Observ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protocol questions inclu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 is being observed?  How many people are involved, who are they, and what individual roles and mannerisms are evid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going on?  What is the nature of the conversation? What are people saying or do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physical setting like?  How are people seated, and where? How do the participants interact with each oth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9T19:15:58Z</dcterms:modified>
  <cp:revision>89</cp:revision>
  <dc:subject/>
  <dc:title>AutoCAD Architecture 2008: Part I: Getting Started</dc:title>
</cp:coreProperties>
</file>